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AC6-2F7E-4E3E-8ECB-1B99A238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8B1-6072-4472-87B4-D6C3BC5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065-8FBC-47C2-8A63-137169EA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3FE-1872-4115-95F7-8C91FE3C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1A2-5A08-4A1D-B71F-92330B78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64A-2717-433B-89CE-C6CCF52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1C6-DC1F-46D8-B619-08A9F85C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AEA-521A-498D-B336-FE147D8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D49-1B6F-4CD5-B664-342A3634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9FF-3792-4D6A-8341-3774440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2C5-17AB-4047-9D31-29297EC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955-0BCD-4DC6-BDEA-535BDFC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Click to edit the title text format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3" marL="16002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BBD-BE63-4D8D-AA17-4C46DD40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Gauging Student Needs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Laura McMillen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Berea High Schoo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Intel 2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January 22, 2008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470240" cy="221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800" y="3962520"/>
            <a:ext cx="2612880" cy="17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533520"/>
            <a:ext cx="172728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11080" y="3650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2819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3808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57150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Works Cited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"Punnett Square Mendel Flowers."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Wikimedia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. 5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May 2007. 4 Feb. 2008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&lt;http://commons.wikimedia.org/wiki/Image: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Punnett_square_mendel_flowers.svg&gt;.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Think Quest. "Pedigree Chart."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The Science of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Genetics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. 15 Apr. 2005. 4 Feb. 2008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&lt;http://library.thinkquest.org/C0110254/pedig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ree_chart_copy.gif&gt;.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cc"/>
                </a:solidFill>
                <a:latin typeface="Tempus Sans ITC"/>
              </a:rPr>
              <a:t>How can we apply scientific skills, tools, and methods of inquiry to solve real-world problems?</a:t>
            </a: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 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45160" y="4627440"/>
            <a:ext cx="1824120" cy="12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43000" y="0"/>
            <a:ext cx="165744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848720" y="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63244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7524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58672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How are biological traits passed to future generations?</a:t>
            </a: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  </a:t>
            </a:r>
            <a:br>
              <a:rPr sz="4600"/>
            </a:b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empus Sans ITC"/>
              </a:rPr>
              <a:t>How can we find out?</a:t>
            </a:r>
            <a:endParaRPr b="0" lang="en-US" sz="3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09680" y="259092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5105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64152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6438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Student Polling </a:t>
            </a:r>
            <a:r>
              <a:rPr b="0" lang="en-US" sz="3000" spc="-1" strike="noStrike">
                <a:solidFill>
                  <a:srgbClr val="0000cc"/>
                </a:solidFill>
                <a:latin typeface="Tempus Sans ITC"/>
              </a:rPr>
              <a:t>(Prior Knowledge)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69" name="j0424466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j0424474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1218960" cy="1285920"/>
          </a:xfrm>
          <a:prstGeom prst="rect">
            <a:avLst/>
          </a:prstGeom>
          <a:ln w="0">
            <a:noFill/>
          </a:ln>
        </p:spPr>
      </p:pic>
      <p:pic>
        <p:nvPicPr>
          <p:cNvPr id="71" name="j0424468" descr=""/>
          <p:cNvPicPr/>
          <p:nvPr/>
        </p:nvPicPr>
        <p:blipFill>
          <a:blip r:embed="rId4"/>
          <a:stretch/>
        </p:blipFill>
        <p:spPr>
          <a:xfrm>
            <a:off x="6934320" y="1981080"/>
            <a:ext cx="1361880" cy="128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100620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empus Sans ITC"/>
                <a:ea typeface="Times New Roman"/>
              </a:rPr>
              <a:t>Directions:  Using 4 stickers, place one sticker on each line in the column that best describes your response to the question.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95240"/>
            <a:ext cx="176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95240"/>
            <a:ext cx="1606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6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657600"/>
            <a:ext cx="2361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empus Sans ITC"/>
              </a:rPr>
              <a:t>No problem! Eas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3686040"/>
            <a:ext cx="27432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empus Sans ITC"/>
              </a:rPr>
              <a:t>Okay…a little unsu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289320"/>
            <a:ext cx="304812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empus Sans ITC"/>
              </a:rPr>
              <a:t>Not happening!  Need further</a:t>
            </a: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 explana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692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Question 1: 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  <a:ea typeface="Times New Roman"/>
              </a:rPr>
              <a:t>I can setup and report % for Punnett squares.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49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Question 2: 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  <a:ea typeface="Times New Roman"/>
              </a:rPr>
              <a:t>I understand how traits are passed through a family.</a:t>
            </a:r>
            <a:r>
              <a:rPr b="0" lang="en-US" sz="26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07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Question 3: 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  <a:ea typeface="Times New Roman"/>
              </a:rPr>
              <a:t>I can create &amp; read a pedigree.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9720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Question 4: 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  <a:ea typeface="Times New Roman"/>
              </a:rPr>
              <a:t>I can use computers to blog, research, use diigo, and make a brochure.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379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cc"/>
                </a:solidFill>
                <a:latin typeface="Tempus Sans ITC"/>
              </a:rPr>
              <a:t>How can I track inheritance of a trait in my family?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338560" cy="327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57600" cy="2568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52160" y="4800600"/>
            <a:ext cx="367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C0110254/pedigree_chart_copy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90520" y="2743200"/>
            <a:ext cx="3838680" cy="383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461280"/>
            <a:ext cx="513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upload.wikimedia.org/wikipedia/commons/thumb/1/17/Punnett_square_mendel_flowers.svg/550px-Punnett_square_mendel_flowers.svg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956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3399"/>
                </a:solidFill>
                <a:latin typeface="Tempus Sans ITC"/>
              </a:rPr>
              <a:t>Round Robin Activity</a:t>
            </a:r>
            <a:endParaRPr b="0" lang="en-US" sz="6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1" name=""/>
          <p:cNvSpPr/>
          <p:nvPr/>
        </p:nvSpPr>
        <p:spPr>
          <a:xfrm rot="20646000">
            <a:off x="228600" y="137124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What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o you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o cre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digree?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646000">
            <a:off x="6019560" y="1218960"/>
            <a:ext cx="2895480" cy="23619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How doe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get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Ge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disorder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646000">
            <a:off x="6095520" y="3962160"/>
            <a:ext cx="2895840" cy="23619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What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role of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gen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counselor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646000">
            <a:off x="3048120" y="137124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How would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determine if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offspring h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genetic dis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646000">
            <a:off x="304920" y="403812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hat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ould a pa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of a ch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ith a gene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disease ask?</a:t>
            </a:r>
            <a:r>
              <a:rPr b="0" lang="en-US" sz="2800" spc="-1" strike="noStrike">
                <a:solidFill>
                  <a:srgbClr val="ccffcc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0646000">
            <a:off x="3352320" y="4038120"/>
            <a:ext cx="2895840" cy="23623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Should cou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do genetic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before conceiving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What would a parent/individual want to know about a genetic disorder?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520" y="3505320"/>
            <a:ext cx="2133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empus Sans ITC"/>
              </a:rPr>
              <a:t>Treatment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3434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empus Sans ITC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1148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empus Sans ITC"/>
              </a:rPr>
              <a:t>Research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1055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empus Sans ITC"/>
              </a:rPr>
              <a:t>Signs of the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0292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empus Sans ITC"/>
              </a:rPr>
              <a:t>Suppor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86728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empus Sans ITC"/>
              </a:rPr>
              <a:t>Where to go for mor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339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empus Sans ITC"/>
              </a:rPr>
              <a:t>How is the disorder inher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2362320"/>
            <a:ext cx="732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ssible Brainstorming Idea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empus Sans ITC"/>
              </a:rPr>
              <a:t>To Answer Our Questions We Need to…</a:t>
            </a:r>
            <a:endParaRPr b="0" lang="en-US" sz="4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Take on the role of a genetics counselo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Create a questionnaire to interview the young couple that is expecting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Correspond with the couple through a blog &amp; relay information to our boss (teacher)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Develop a pedigree chart of the couple’s medical history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empus Sans ITC"/>
              </a:rPr>
              <a:t>To Answer Our Questions We Need to…</a:t>
            </a:r>
            <a:endParaRPr b="0" lang="en-US" sz="4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Analyze the results of the couples’ blood test (karotyping lab) to determine if a mutation occurs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Determine the probability of the offspring having the genetic disorde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Create a brochure to inform the couple about the genetic disorde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Submit artifacts &amp; findings to our boss &amp; the couple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26:45Z</dcterms:created>
  <dc:creator>Greenville Schools</dc:creator>
  <dc:description/>
  <dc:language>en-US</dc:language>
  <cp:lastModifiedBy>Greenville Schools</cp:lastModifiedBy>
  <dcterms:modified xsi:type="dcterms:W3CDTF">2008-03-04T21:17:06Z</dcterms:modified>
  <cp:revision>8</cp:revision>
  <dc:subject/>
  <dc:title>How can we apply scientific skills, tools, and methods of inquiry to solve real-world problems? </dc:title>
</cp:coreProperties>
</file>